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6C67-DF16-483B-8CE6-DF496D8F22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2C3F9-3B06-4B7D-AE6E-1F182B05817A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789-1639-4727-9E7F-18ACA0C2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E06C-36C9-44C7-9C14-659549BB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5EBA-06A0-473F-8050-71370BF0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D09-3238-4B85-B61E-7BF1ED4D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D1F-5B43-4285-AA79-9FC4F3C5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545B-46C9-47CB-B855-C9096E5D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13EA-62F0-4BA4-A29A-C9D73E43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063-F146-466A-910E-AA66EDD3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202-C9A8-4269-A3B2-194E94A5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1D1-A3D8-4E92-B000-7F96BD59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CB7-38BE-413A-9FF7-2F504CAD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C466-091A-4081-B46D-0FB3C1F9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3B69-A305-4DD4-83D1-24164616A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692280"/>
            <a:ext cx="71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С.Саттаров атындағы № 57 мектеп - лицейі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492280"/>
            <a:ext cx="84978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 KK EK"/>
              </a:rPr>
              <a:t>Ашық саб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 KK EK"/>
              </a:rPr>
              <a:t>Тақырыбы: Сөз таптары. Зат есі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 KK EK"/>
              </a:rPr>
              <a:t>Өткізген: Медиева П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                                           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Қарағанды – 2012 жы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836640"/>
            <a:ext cx="4949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i="1" lang="kk-KZ" sz="3500" spc="-1" strike="noStrike">
                <a:solidFill>
                  <a:srgbClr val="ff3300"/>
                </a:solidFill>
                <a:latin typeface="Times New Roman"/>
              </a:rPr>
              <a:t>Оқулықпен жұмы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2400" y="1700280"/>
            <a:ext cx="84819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 KK EK"/>
              </a:rPr>
              <a:t>118- жаттығу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 KK EK"/>
              </a:rPr>
              <a:t>Өздерің білетін жалқы есімдерді естеріңе түсіріп, дәптерлеріңе жазыңда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Кісі аттары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Мемлекет, республика, облыс, аудан, қала, ауыл атаулары: 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Мекеме, зауыт, фабрика, ұжым атаулары: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4. Газет-журнал, кітап, ән, күй, шығарма: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5. Жер, су атаулары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Жылқыға, сиырға, түйеге, итке қойылатын аттар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00"/>
                </a:solidFill>
                <a:latin typeface="Arial"/>
              </a:rPr>
              <a:t>Шығармашылық жұмы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Біздің ауыл” тақырыбына шағы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әңгіме ж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Жалқы есім мен жалпы есімдерді                            қатыстыру, астын сы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Талдау- табыс кілт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Абайдың ұлағатты сөзін алып, талдау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Адамның адамшылығы- ақыл, ғылым, жақсы ата, жақсы ана, жақсы құрбы, жақсы ұстаздан басталад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Зат есім сөздерді таб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Құрбы сөзіне сатылай- кешенді талдау жас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І топ- Құрбы сөзіне  Фонетикалық талд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ІІ топ- Құрбы сөзіне Фонологиялық талд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Фонологиялық талда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1600200"/>
            <a:ext cx="8228160" cy="4525200"/>
            <a:chOff x="457200" y="1600200"/>
            <a:chExt cx="8228160" cy="4525200"/>
          </a:xfrm>
        </p:grpSpPr>
        <p:cxnSp>
          <p:nvCxnSpPr>
            <p:cNvPr id="183" name="_s31759"/>
            <p:cNvCxnSpPr>
              <a:stCxn id="184" idx="1"/>
              <a:endCxn id="185" idx="2"/>
            </p:cNvCxnSpPr>
            <p:nvPr/>
          </p:nvCxnSpPr>
          <p:spPr>
            <a:xfrm rot="10800000">
              <a:off x="2925000" y="2245680"/>
              <a:ext cx="823320" cy="35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31756"/>
            <p:cNvCxnSpPr>
              <a:stCxn id="187" idx="1"/>
              <a:endCxn id="185" idx="2"/>
            </p:cNvCxnSpPr>
            <p:nvPr/>
          </p:nvCxnSpPr>
          <p:spPr>
            <a:xfrm rot="10800000">
              <a:off x="2925000" y="2245680"/>
              <a:ext cx="823320" cy="258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31755"/>
            <p:cNvCxnSpPr>
              <a:stCxn id="189" idx="1"/>
              <a:endCxn id="185" idx="2"/>
            </p:cNvCxnSpPr>
            <p:nvPr/>
          </p:nvCxnSpPr>
          <p:spPr>
            <a:xfrm rot="10800000">
              <a:off x="2925000" y="2245680"/>
              <a:ext cx="823320" cy="161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31754"/>
            <p:cNvCxnSpPr>
              <a:stCxn id="191" idx="1"/>
              <a:endCxn id="185" idx="2"/>
            </p:cNvCxnSpPr>
            <p:nvPr/>
          </p:nvCxnSpPr>
          <p:spPr>
            <a:xfrm rot="10800000">
              <a:off x="2925000" y="2245680"/>
              <a:ext cx="823320" cy="6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5" name="_s31750"/>
            <p:cNvSpPr/>
            <p:nvPr/>
          </p:nvSpPr>
          <p:spPr>
            <a:xfrm>
              <a:off x="457200" y="16002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лы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31751"/>
            <p:cNvSpPr/>
            <p:nvPr/>
          </p:nvSpPr>
          <p:spPr>
            <a:xfrm>
              <a:off x="3748320" y="256968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5 әріп, 5 дыбыс, екі буын ба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31752"/>
            <p:cNvSpPr/>
            <p:nvPr/>
          </p:nvSpPr>
          <p:spPr>
            <a:xfrm>
              <a:off x="3748320" y="353952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-лым  тасымалдана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1753"/>
            <p:cNvSpPr/>
            <p:nvPr/>
          </p:nvSpPr>
          <p:spPr>
            <a:xfrm>
              <a:off x="3748320" y="450936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- ашық буын, лым- бітеу буы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1758"/>
            <p:cNvSpPr/>
            <p:nvPr/>
          </p:nvSpPr>
          <p:spPr>
            <a:xfrm>
              <a:off x="3748320" y="54792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Екпін соңғы буынға түсіп тұ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7063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Өздерің білетін жалпы және жалқы есімдерді жазың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397160"/>
          <a:ext cx="8137440" cy="465120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алпы есімд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5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алқы есімде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839440" cy="67057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ОЙ ҚОЗҒА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Географиялық ата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Күнделікті тұрмысқа байланыст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Өлең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Ән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Қоғамдық өмірге байланысты атау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Кісі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505320"/>
            <a:ext cx="19814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Өнеркәсі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457200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рыжайл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295280"/>
            <a:ext cx="2057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егізая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304920"/>
            <a:ext cx="205740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Отағ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251460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Заттыб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5715000"/>
            <a:ext cx="20574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Қызыло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3"/>
          <p:cNvSpPr/>
          <p:nvPr/>
        </p:nvSpPr>
        <p:spPr>
          <a:xfrm>
            <a:off x="684360" y="220500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Courier New"/>
              </a:rPr>
              <a:t>Сабақты бекі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7885080" y="5373720"/>
            <a:ext cx="57636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flipH="1" rot="10735800">
            <a:off x="0" y="4005000"/>
            <a:ext cx="2633760" cy="2852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flipH="1" rot="21562800">
            <a:off x="6509880" y="-360"/>
            <a:ext cx="26337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6409080" cy="57636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Семантикалық карта толты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8120" y="-880560"/>
            <a:ext cx="492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Семантикалық карта толтыру /оқушылардың бәріне таратылады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9640" y="1197000"/>
          <a:ext cx="8280360" cy="5340240"/>
        </p:xfrm>
        <a:graphic>
          <a:graphicData uri="http://schemas.openxmlformats.org/drawingml/2006/table">
            <a:tbl>
              <a:tblPr/>
              <a:tblGrid>
                <a:gridCol w="484200"/>
                <a:gridCol w="1820880"/>
                <a:gridCol w="1290600"/>
                <a:gridCol w="1287720"/>
                <a:gridCol w="1823760"/>
                <a:gridCol w="157320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ысалд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алпы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алқы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ректі зат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рексіз зат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Әк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ұхтар Әуез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ұлаг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айғ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ост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омбы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Саудаг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Өн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араған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ігітт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ызылордал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әріха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Әке-шеш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рма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Шекараш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0" y="77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6840" y="1142640"/>
            <a:ext cx="8472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4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k-KZ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т есім дегеніміз не?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Заголовок 2" descr=""/>
          <p:cNvPicPr/>
          <p:nvPr/>
        </p:nvPicPr>
        <p:blipFill>
          <a:blip r:embed="rId2"/>
          <a:stretch/>
        </p:blipFill>
        <p:spPr>
          <a:xfrm>
            <a:off x="493560" y="384120"/>
            <a:ext cx="8242560" cy="13478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" descr="C:\Documents and Settings\5 школа\Мои документы\Прочее\перо\2008-09 (сен)\сканирование0002.jpg"/>
          <p:cNvPicPr/>
          <p:nvPr/>
        </p:nvPicPr>
        <p:blipFill>
          <a:blip r:embed="rId3"/>
          <a:stretch/>
        </p:blipFill>
        <p:spPr>
          <a:xfrm>
            <a:off x="4478400" y="2782800"/>
            <a:ext cx="367812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Жалқы және жалпы есімдерге 6 сөйлем құрастыру</a:t>
            </a:r>
            <a:r>
              <a:rPr b="0" lang="kk-KZ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2. Зат есім туралы оқ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3. «Зат есім» тақырыбына сөз жұмбақ, ребустар құрастырып әк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Blue_book"/>
          <p:cNvPicPr/>
          <p:nvPr/>
        </p:nvPicPr>
        <p:blipFill>
          <a:blip r:embed="rId3"/>
          <a:stretch/>
        </p:blipFill>
        <p:spPr>
          <a:xfrm>
            <a:off x="4356000" y="3357720"/>
            <a:ext cx="4071960" cy="3290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1773360"/>
            <a:ext cx="71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3300"/>
                </a:solidFill>
                <a:latin typeface="Times New Roman"/>
              </a:rPr>
              <a:t>Сабақтың тақырыбы:</a:t>
            </a: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 Сөз таптары.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Зат есім.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49228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ff3300"/>
                </a:solidFill>
                <a:latin typeface="Times New Roman KK EK"/>
              </a:rPr>
              <a:t>Сабақтың мақсаты: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1. Оқушыларға сөз таптары, оның ішінде зат есім, зат есімнің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жалпы есім, жалқы есім түрлері туралы тереңірек білім бе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2. Сөз таптары бойынша меңгерген білімдеріне сүйене отырып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зат есім туралы түсініктерін дамыту, сауатты жазу, оқ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дағдыларын жетілдіру, оқушылардың белсенді ойлау қызметтерін жанданды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3. Қазақ тілінің морфологиялық заңдылықтарын түсіндіре отырып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тілдік- эстетикалық сезімдерге тәрбиелеу, адамгершілі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қасиеттерді бойларына даты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1280" y="620640"/>
            <a:ext cx="39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Times New Roman KK EK"/>
              </a:rPr>
              <a:t>Қазақ тілі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Times New Roman KK EK"/>
              <a:ea typeface="Times New Roman KK E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16000" y="2349360"/>
            <a:ext cx="7704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Оқушыларды  бағалау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17" name=""/>
          <p:cNvSpPr txBox="1"/>
          <p:nvPr/>
        </p:nvSpPr>
        <p:spPr>
          <a:xfrm rot="20766600">
            <a:off x="1476360" y="691920"/>
            <a:ext cx="208116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5"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32360" y="692280"/>
            <a:ext cx="158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4"</a:t>
            </a:r>
            <a:endParaRPr b="0" i="1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92360" y="4724280"/>
            <a:ext cx="165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3"</a:t>
            </a:r>
            <a:endParaRPr b="0" i="1" lang="en-US" sz="1800" spc="1" strike="noStrike">
              <a:ln w="9360">
                <a:solidFill>
                  <a:srgbClr val="80800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 rot="20431200">
            <a:off x="6300720" y="4581360"/>
            <a:ext cx="136692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2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3"/>
          <p:cNvSpPr/>
          <p:nvPr/>
        </p:nvSpPr>
        <p:spPr>
          <a:xfrm>
            <a:off x="684360" y="1916280"/>
            <a:ext cx="8208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c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500" spc="-1" strike="noStrike">
                <a:solidFill>
                  <a:srgbClr val="0033cc"/>
                </a:solidFill>
                <a:latin typeface="Courier New"/>
              </a:rPr>
              <a:t>Назарларыңызға рахме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7885080" y="5373720"/>
            <a:ext cx="57636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 flipH="1" rot="10735800">
            <a:off x="0" y="4005000"/>
            <a:ext cx="2633760" cy="2852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 flipH="1" rot="21562800">
            <a:off x="6509880" y="-360"/>
            <a:ext cx="26337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8435880" cy="431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Сөздердің білдіретін мағынасы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түрлену тұлғасына, қойылаты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сұрағына, сөйлемде атқараты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қызметіне қарай топталуын </a:t>
            </a: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сөз таптары</a:t>
            </a: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 дейміз</a:t>
            </a: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430200" y="1149480"/>
            <a:ext cx="8209080" cy="5256720"/>
            <a:chOff x="430200" y="1149480"/>
            <a:chExt cx="8209080" cy="5256720"/>
          </a:xfrm>
        </p:grpSpPr>
        <p:cxnSp>
          <p:nvCxnSpPr>
            <p:cNvPr id="57" name="_s45098"/>
            <p:cNvCxnSpPr>
              <a:stCxn id="58" idx="0"/>
              <a:endCxn id="59" idx="2"/>
            </p:cNvCxnSpPr>
            <p:nvPr/>
          </p:nvCxnSpPr>
          <p:spPr>
            <a:xfrm flipV="1">
              <a:off x="6166080" y="5041440"/>
              <a:ext cx="7200" cy="21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45096"/>
            <p:cNvCxnSpPr>
              <a:stCxn id="61" idx="0"/>
              <a:endCxn id="59" idx="2"/>
            </p:cNvCxnSpPr>
            <p:nvPr/>
          </p:nvCxnSpPr>
          <p:spPr>
            <a:xfrm flipV="1">
              <a:off x="6166080" y="5041440"/>
              <a:ext cx="7200" cy="18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45094"/>
            <p:cNvCxnSpPr>
              <a:stCxn id="63" idx="0"/>
              <a:endCxn id="64" idx="2"/>
            </p:cNvCxnSpPr>
            <p:nvPr/>
          </p:nvCxnSpPr>
          <p:spPr>
            <a:xfrm flipV="1">
              <a:off x="6166080" y="5628960"/>
              <a:ext cx="7200" cy="21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45090"/>
            <p:cNvCxnSpPr>
              <a:stCxn id="66" idx="1"/>
              <a:endCxn id="67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45088"/>
            <p:cNvCxnSpPr>
              <a:stCxn id="67" idx="1"/>
              <a:endCxn id="69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45086"/>
            <p:cNvCxnSpPr>
              <a:stCxn id="69" idx="1"/>
              <a:endCxn id="71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45084"/>
            <p:cNvCxnSpPr>
              <a:stCxn id="73" idx="1"/>
              <a:endCxn id="71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45082"/>
            <p:cNvCxnSpPr>
              <a:stCxn id="71" idx="1"/>
              <a:endCxn id="75" idx="2"/>
            </p:cNvCxnSpPr>
            <p:nvPr/>
          </p:nvCxnSpPr>
          <p:spPr>
            <a:xfrm flipH="1" flipV="1" rot="10800000">
              <a:off x="3692520" y="6018840"/>
              <a:ext cx="2473920" cy="186840"/>
            </a:xfrm>
            <a:prstGeom prst="bentConnector4">
              <a:avLst>
                <a:gd name="adj1" fmla="val -4628"/>
                <a:gd name="adj2" fmla="val 2077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45080"/>
            <p:cNvCxnSpPr>
              <a:stCxn id="75" idx="0"/>
              <a:endCxn id="64" idx="2"/>
            </p:cNvCxnSpPr>
            <p:nvPr/>
          </p:nvCxnSpPr>
          <p:spPr>
            <a:xfrm flipV="1">
              <a:off x="6166080" y="5628600"/>
              <a:ext cx="7200" cy="18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45060"/>
            <p:cNvCxnSpPr/>
            <p:nvPr/>
          </p:nvCxnSpPr>
          <p:spPr>
            <a:xfrm rot="10800000">
              <a:off x="3468960" y="1536480"/>
              <a:ext cx="207000" cy="450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45061"/>
            <p:cNvCxnSpPr>
              <a:stCxn id="64" idx="1"/>
              <a:endCxn id="79" idx="2"/>
            </p:cNvCxnSpPr>
            <p:nvPr/>
          </p:nvCxnSpPr>
          <p:spPr>
            <a:xfrm rot="10800000">
              <a:off x="3520800" y="1541160"/>
              <a:ext cx="172080" cy="389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45062"/>
            <p:cNvCxnSpPr>
              <a:stCxn id="59" idx="1"/>
              <a:endCxn id="79" idx="2"/>
            </p:cNvCxnSpPr>
            <p:nvPr/>
          </p:nvCxnSpPr>
          <p:spPr>
            <a:xfrm rot="10800000">
              <a:off x="3520800" y="1540440"/>
              <a:ext cx="172080" cy="33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45063"/>
            <p:cNvCxnSpPr>
              <a:stCxn id="82" idx="1"/>
              <a:endCxn id="79" idx="2"/>
            </p:cNvCxnSpPr>
            <p:nvPr/>
          </p:nvCxnSpPr>
          <p:spPr>
            <a:xfrm rot="10800000">
              <a:off x="3520800" y="1540440"/>
              <a:ext cx="172080" cy="271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45064"/>
            <p:cNvCxnSpPr/>
            <p:nvPr/>
          </p:nvCxnSpPr>
          <p:spPr>
            <a:xfrm rot="10800000">
              <a:off x="3468960" y="1536480"/>
              <a:ext cx="207000" cy="2154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45065"/>
            <p:cNvCxnSpPr>
              <a:stCxn id="85" idx="1"/>
              <a:endCxn id="79" idx="2"/>
            </p:cNvCxnSpPr>
            <p:nvPr/>
          </p:nvCxnSpPr>
          <p:spPr>
            <a:xfrm rot="10800000">
              <a:off x="3520800" y="1540440"/>
              <a:ext cx="172080" cy="154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45066"/>
            <p:cNvCxnSpPr/>
            <p:nvPr/>
          </p:nvCxnSpPr>
          <p:spPr>
            <a:xfrm rot="10800000">
              <a:off x="3468960" y="1536480"/>
              <a:ext cx="207000" cy="97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45067"/>
            <p:cNvCxnSpPr>
              <a:stCxn id="88" idx="1"/>
              <a:endCxn id="79" idx="2"/>
            </p:cNvCxnSpPr>
            <p:nvPr/>
          </p:nvCxnSpPr>
          <p:spPr>
            <a:xfrm rot="10800000">
              <a:off x="3520800" y="1541160"/>
              <a:ext cx="172080" cy="367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45068"/>
            <p:cNvSpPr/>
            <p:nvPr/>
          </p:nvSpPr>
          <p:spPr>
            <a:xfrm>
              <a:off x="430200" y="1149480"/>
              <a:ext cx="618264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Зат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45069"/>
            <p:cNvSpPr/>
            <p:nvPr/>
          </p:nvSpPr>
          <p:spPr>
            <a:xfrm>
              <a:off x="3692880" y="171252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Сын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45070"/>
            <p:cNvSpPr/>
            <p:nvPr/>
          </p:nvSpPr>
          <p:spPr>
            <a:xfrm>
              <a:off x="3692880" y="23000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Сан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45071"/>
            <p:cNvSpPr/>
            <p:nvPr/>
          </p:nvSpPr>
          <p:spPr>
            <a:xfrm>
              <a:off x="3692880" y="288756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сімді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45072"/>
            <p:cNvSpPr/>
            <p:nvPr/>
          </p:nvSpPr>
          <p:spPr>
            <a:xfrm>
              <a:off x="3692880" y="347508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тісті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45073"/>
            <p:cNvSpPr/>
            <p:nvPr/>
          </p:nvSpPr>
          <p:spPr>
            <a:xfrm>
              <a:off x="3692880" y="406260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Үсте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45074"/>
            <p:cNvSpPr/>
            <p:nvPr/>
          </p:nvSpPr>
          <p:spPr>
            <a:xfrm>
              <a:off x="3692880" y="465012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ліктеу сөздер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45075"/>
            <p:cNvSpPr/>
            <p:nvPr/>
          </p:nvSpPr>
          <p:spPr>
            <a:xfrm>
              <a:off x="3692880" y="52376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лікте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45076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Шыла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45079"/>
            <p:cNvSpPr/>
            <p:nvPr/>
          </p:nvSpPr>
          <p:spPr>
            <a:xfrm>
              <a:off x="3692880" y="581580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45081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45083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45085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45087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45089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000" spc="-1" strike="noStrike">
                  <a:solidFill>
                    <a:srgbClr val="000000"/>
                  </a:solidFill>
                  <a:latin typeface="Arial"/>
                </a:rPr>
                <a:t>тьть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45093"/>
            <p:cNvSpPr/>
            <p:nvPr/>
          </p:nvSpPr>
          <p:spPr>
            <a:xfrm>
              <a:off x="3692880" y="5847120"/>
              <a:ext cx="49464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Одаға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45095"/>
            <p:cNvSpPr/>
            <p:nvPr/>
          </p:nvSpPr>
          <p:spPr>
            <a:xfrm>
              <a:off x="3692880" y="52268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45097"/>
            <p:cNvSpPr/>
            <p:nvPr/>
          </p:nvSpPr>
          <p:spPr>
            <a:xfrm>
              <a:off x="3692880" y="5255280"/>
              <a:ext cx="4946400" cy="393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Шыла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Сөз тапт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1125360"/>
            <a:ext cx="8228880" cy="5000040"/>
            <a:chOff x="457200" y="1125360"/>
            <a:chExt cx="8228880" cy="5000040"/>
          </a:xfrm>
        </p:grpSpPr>
        <p:cxnSp>
          <p:nvCxnSpPr>
            <p:cNvPr id="95" name="_s23580"/>
            <p:cNvCxnSpPr>
              <a:stCxn id="96" idx="1"/>
              <a:endCxn id="97" idx="2"/>
            </p:cNvCxnSpPr>
            <p:nvPr/>
          </p:nvCxnSpPr>
          <p:spPr>
            <a:xfrm rot="10800000">
              <a:off x="1827720" y="4761000"/>
              <a:ext cx="457560" cy="90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23578"/>
            <p:cNvCxnSpPr>
              <a:stCxn id="99" idx="1"/>
              <a:endCxn id="100" idx="2"/>
            </p:cNvCxnSpPr>
            <p:nvPr/>
          </p:nvCxnSpPr>
          <p:spPr>
            <a:xfrm rot="10800000">
              <a:off x="5485320" y="4761000"/>
              <a:ext cx="457560" cy="90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3569"/>
            <p:cNvCxnSpPr>
              <a:stCxn id="100" idx="0"/>
              <a:endCxn id="102" idx="2"/>
            </p:cNvCxnSpPr>
            <p:nvPr/>
          </p:nvCxnSpPr>
          <p:spPr>
            <a:xfrm flipV="1">
              <a:off x="5485680" y="3397680"/>
              <a:ext cx="32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3567"/>
            <p:cNvCxnSpPr>
              <a:stCxn id="97" idx="0"/>
              <a:endCxn id="104" idx="2"/>
            </p:cNvCxnSpPr>
            <p:nvPr/>
          </p:nvCxnSpPr>
          <p:spPr>
            <a:xfrm flipV="1">
              <a:off x="1828080" y="3397680"/>
              <a:ext cx="32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3563"/>
            <p:cNvCxnSpPr>
              <a:stCxn id="102" idx="0"/>
              <a:endCxn id="106" idx="2"/>
            </p:cNvCxnSpPr>
            <p:nvPr/>
          </p:nvCxnSpPr>
          <p:spPr>
            <a:xfrm flipV="1" rot="16200000">
              <a:off x="4343760" y="1346760"/>
              <a:ext cx="455040" cy="1829160"/>
            </a:xfrm>
            <a:prstGeom prst="bentConnector3">
              <a:avLst>
                <a:gd name="adj1" fmla="val 250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23562"/>
            <p:cNvCxnSpPr>
              <a:stCxn id="104" idx="0"/>
              <a:endCxn id="106" idx="2"/>
            </p:cNvCxnSpPr>
            <p:nvPr/>
          </p:nvCxnSpPr>
          <p:spPr>
            <a:xfrm flipH="1" flipV="1" rot="5400000">
              <a:off x="2514960" y="1346760"/>
              <a:ext cx="455040" cy="1829160"/>
            </a:xfrm>
            <a:prstGeom prst="bentConnector3">
              <a:avLst>
                <a:gd name="adj1" fmla="val 250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6" name="_s23558"/>
            <p:cNvSpPr/>
            <p:nvPr/>
          </p:nvSpPr>
          <p:spPr>
            <a:xfrm>
              <a:off x="2285640" y="112536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Құрамына қар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3559"/>
            <p:cNvSpPr/>
            <p:nvPr/>
          </p:nvSpPr>
          <p:spPr>
            <a:xfrm>
              <a:off x="457200" y="248904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Дара зат есі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3560"/>
            <p:cNvSpPr/>
            <p:nvPr/>
          </p:nvSpPr>
          <p:spPr>
            <a:xfrm>
              <a:off x="4114440" y="248904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Күрделі зат есі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3566"/>
            <p:cNvSpPr/>
            <p:nvPr/>
          </p:nvSpPr>
          <p:spPr>
            <a:xfrm>
              <a:off x="457200" y="385272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Бір ғана түбірден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тұр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3568"/>
            <p:cNvSpPr/>
            <p:nvPr/>
          </p:nvSpPr>
          <p:spPr>
            <a:xfrm>
              <a:off x="4114440" y="385272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Кемінде екі сөзд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тіркесу арқылы жасал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3577"/>
            <p:cNvSpPr/>
            <p:nvPr/>
          </p:nvSpPr>
          <p:spPr>
            <a:xfrm>
              <a:off x="5943240" y="521640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Мәдениет үйі, ата- а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3579"/>
            <p:cNvSpPr/>
            <p:nvPr/>
          </p:nvSpPr>
          <p:spPr>
            <a:xfrm>
              <a:off x="2285640" y="521640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От, ара, қант, оқуш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1413000"/>
            <a:ext cx="8228520" cy="4712040"/>
            <a:chOff x="457200" y="1413000"/>
            <a:chExt cx="8228520" cy="4712040"/>
          </a:xfrm>
        </p:grpSpPr>
        <p:cxnSp>
          <p:nvCxnSpPr>
            <p:cNvPr id="110" name="_s25618"/>
            <p:cNvCxnSpPr>
              <a:stCxn id="111" idx="0"/>
              <a:endCxn id="112" idx="2"/>
            </p:cNvCxnSpPr>
            <p:nvPr/>
          </p:nvCxnSpPr>
          <p:spPr>
            <a:xfrm flipV="1">
              <a:off x="6786720" y="4357800"/>
              <a:ext cx="4680" cy="58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25616"/>
            <p:cNvCxnSpPr>
              <a:stCxn id="114" idx="0"/>
              <a:endCxn id="115" idx="2"/>
            </p:cNvCxnSpPr>
            <p:nvPr/>
          </p:nvCxnSpPr>
          <p:spPr>
            <a:xfrm flipV="1">
              <a:off x="2355480" y="4357800"/>
              <a:ext cx="4680" cy="58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5611"/>
            <p:cNvCxnSpPr>
              <a:stCxn id="112" idx="0"/>
              <a:endCxn id="117" idx="2"/>
            </p:cNvCxnSpPr>
            <p:nvPr/>
          </p:nvCxnSpPr>
          <p:spPr>
            <a:xfrm flipV="1" rot="16200000">
              <a:off x="5383800" y="1776960"/>
              <a:ext cx="589680" cy="2216160"/>
            </a:xfrm>
            <a:prstGeom prst="bentConnector3">
              <a:avLst>
                <a:gd name="adj1" fmla="val 202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5610"/>
            <p:cNvCxnSpPr>
              <a:stCxn id="115" idx="0"/>
              <a:endCxn id="117" idx="2"/>
            </p:cNvCxnSpPr>
            <p:nvPr/>
          </p:nvCxnSpPr>
          <p:spPr>
            <a:xfrm flipH="1" flipV="1" rot="5400000">
              <a:off x="3168360" y="1777680"/>
              <a:ext cx="589680" cy="2215440"/>
            </a:xfrm>
            <a:prstGeom prst="bentConnector3">
              <a:avLst>
                <a:gd name="adj1" fmla="val 202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25606"/>
            <p:cNvSpPr/>
            <p:nvPr/>
          </p:nvSpPr>
          <p:spPr>
            <a:xfrm>
              <a:off x="2671920" y="141300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Жалпылай немес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жекелей аталуын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қара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5607"/>
            <p:cNvSpPr/>
            <p:nvPr/>
          </p:nvSpPr>
          <p:spPr>
            <a:xfrm>
              <a:off x="457200" y="317988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000" spc="-1" strike="noStrike">
                  <a:solidFill>
                    <a:srgbClr val="000000"/>
                  </a:solidFill>
                  <a:latin typeface="Arial"/>
                </a:rPr>
                <a:t>Жалпы есі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5608"/>
            <p:cNvSpPr/>
            <p:nvPr/>
          </p:nvSpPr>
          <p:spPr>
            <a:xfrm>
              <a:off x="4888080" y="317988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000" spc="-1" strike="noStrike">
                  <a:solidFill>
                    <a:srgbClr val="000000"/>
                  </a:solidFill>
                  <a:latin typeface="Arial"/>
                </a:rPr>
                <a:t>Жалқы есі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5615"/>
            <p:cNvSpPr/>
            <p:nvPr/>
          </p:nvSpPr>
          <p:spPr>
            <a:xfrm>
              <a:off x="457200" y="494712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Мысалы: қала, өзен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тау, кітап, кісі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5617"/>
            <p:cNvSpPr/>
            <p:nvPr/>
          </p:nvSpPr>
          <p:spPr>
            <a:xfrm>
              <a:off x="4888080" y="494712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Мысалы: Алматы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Ертіс, Алатау, Абыла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" y="1341360"/>
            <a:ext cx="8228520" cy="4784040"/>
            <a:chOff x="457200" y="1341360"/>
            <a:chExt cx="8228520" cy="4784040"/>
          </a:xfrm>
        </p:grpSpPr>
        <p:cxnSp>
          <p:nvCxnSpPr>
            <p:cNvPr id="121" name="_s27665"/>
            <p:cNvCxnSpPr>
              <a:stCxn id="122" idx="0"/>
              <a:endCxn id="123" idx="2"/>
            </p:cNvCxnSpPr>
            <p:nvPr/>
          </p:nvCxnSpPr>
          <p:spPr>
            <a:xfrm flipV="1">
              <a:off x="678672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7663"/>
            <p:cNvCxnSpPr>
              <a:stCxn id="125" idx="0"/>
              <a:endCxn id="126" idx="2"/>
            </p:cNvCxnSpPr>
            <p:nvPr/>
          </p:nvCxnSpPr>
          <p:spPr>
            <a:xfrm flipV="1">
              <a:off x="235548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7659"/>
            <p:cNvCxnSpPr>
              <a:stCxn id="123" idx="0"/>
              <a:endCxn id="128" idx="2"/>
            </p:cNvCxnSpPr>
            <p:nvPr/>
          </p:nvCxnSpPr>
          <p:spPr>
            <a:xfrm flipV="1" rot="16200000">
              <a:off x="5379120" y="1727640"/>
              <a:ext cx="598680" cy="221616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7658"/>
            <p:cNvCxnSpPr>
              <a:stCxn id="126" idx="0"/>
              <a:endCxn id="128" idx="2"/>
            </p:cNvCxnSpPr>
            <p:nvPr/>
          </p:nvCxnSpPr>
          <p:spPr>
            <a:xfrm flipH="1" flipV="1" rot="5400000">
              <a:off x="3164040" y="1728360"/>
              <a:ext cx="598680" cy="2215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8" name="_s27654"/>
            <p:cNvSpPr/>
            <p:nvPr/>
          </p:nvSpPr>
          <p:spPr>
            <a:xfrm>
              <a:off x="2671920" y="134136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Мағынасына қара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7655"/>
            <p:cNvSpPr/>
            <p:nvPr/>
          </p:nvSpPr>
          <p:spPr>
            <a:xfrm>
              <a:off x="45720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Деректі зат есі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7656"/>
            <p:cNvSpPr/>
            <p:nvPr/>
          </p:nvSpPr>
          <p:spPr>
            <a:xfrm>
              <a:off x="488808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Дерексіз зат есі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7662"/>
            <p:cNvSpPr/>
            <p:nvPr/>
          </p:nvSpPr>
          <p:spPr>
            <a:xfrm>
              <a:off x="45720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Көзбен көріп, қолмен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ұстауғ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болатын заттардың атау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7664"/>
            <p:cNvSpPr/>
            <p:nvPr/>
          </p:nvSpPr>
          <p:spPr>
            <a:xfrm>
              <a:off x="488808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Көзбен көріп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қолмен ұстауға келмейтін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тек оймен, ақыл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ана сезіп білетін ұғымның атау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341360"/>
            <a:ext cx="8228520" cy="4784040"/>
            <a:chOff x="457200" y="1341360"/>
            <a:chExt cx="8228520" cy="4784040"/>
          </a:xfrm>
        </p:grpSpPr>
        <p:cxnSp>
          <p:nvCxnSpPr>
            <p:cNvPr id="132" name="_s51205"/>
            <p:cNvCxnSpPr>
              <a:stCxn id="133" idx="0"/>
              <a:endCxn id="134" idx="2"/>
            </p:cNvCxnSpPr>
            <p:nvPr/>
          </p:nvCxnSpPr>
          <p:spPr>
            <a:xfrm flipV="1">
              <a:off x="678672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51206"/>
            <p:cNvCxnSpPr>
              <a:stCxn id="136" idx="0"/>
              <a:endCxn id="137" idx="2"/>
            </p:cNvCxnSpPr>
            <p:nvPr/>
          </p:nvCxnSpPr>
          <p:spPr>
            <a:xfrm flipV="1">
              <a:off x="235548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51207"/>
            <p:cNvCxnSpPr>
              <a:stCxn id="134" idx="0"/>
              <a:endCxn id="139" idx="2"/>
            </p:cNvCxnSpPr>
            <p:nvPr/>
          </p:nvCxnSpPr>
          <p:spPr>
            <a:xfrm flipV="1" rot="16200000">
              <a:off x="5379120" y="1727640"/>
              <a:ext cx="598680" cy="221616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51208"/>
            <p:cNvCxnSpPr>
              <a:stCxn id="137" idx="0"/>
              <a:endCxn id="139" idx="2"/>
            </p:cNvCxnSpPr>
            <p:nvPr/>
          </p:nvCxnSpPr>
          <p:spPr>
            <a:xfrm flipH="1" flipV="1" rot="5400000">
              <a:off x="3164040" y="1728360"/>
              <a:ext cx="598680" cy="2215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51209"/>
            <p:cNvSpPr/>
            <p:nvPr/>
          </p:nvSpPr>
          <p:spPr>
            <a:xfrm>
              <a:off x="2671920" y="134136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Тұлғасына қара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51210"/>
            <p:cNvSpPr/>
            <p:nvPr/>
          </p:nvSpPr>
          <p:spPr>
            <a:xfrm>
              <a:off x="45720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Негізгі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51211"/>
            <p:cNvSpPr/>
            <p:nvPr/>
          </p:nvSpPr>
          <p:spPr>
            <a:xfrm>
              <a:off x="488808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Туынды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51212"/>
            <p:cNvSpPr/>
            <p:nvPr/>
          </p:nvSpPr>
          <p:spPr>
            <a:xfrm>
              <a:off x="45720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Жер, су, қала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51213"/>
            <p:cNvSpPr/>
            <p:nvPr/>
          </p:nvSpPr>
          <p:spPr>
            <a:xfrm>
              <a:off x="488808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оқушы, айтыс, білі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771640" y="836640"/>
            <a:ext cx="3600720" cy="574560"/>
          </a:xfrm>
          <a:custGeom>
            <a:avLst/>
            <a:gdLst>
              <a:gd name="textAreaLeft" fmla="*/ 900000 w 3600720"/>
              <a:gd name="textAreaRight" fmla="*/ 2700720 w 3600720"/>
              <a:gd name="textAreaTop" fmla="*/ 7164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640" y="98280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imes New Roman"/>
              </a:rPr>
              <a:t>Зат есі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2637000"/>
            <a:ext cx="865080" cy="7207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41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112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076720" y="270828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3213000"/>
            <a:ext cx="1727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3357720"/>
            <a:ext cx="792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92360" y="3357720"/>
            <a:ext cx="71928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3141720"/>
            <a:ext cx="1511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8000" y="2852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55640" y="105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020000" y="2492280"/>
            <a:ext cx="341280" cy="301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56000" y="472428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5013360"/>
            <a:ext cx="82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Жал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88000" y="3573360"/>
            <a:ext cx="2305080" cy="1081080"/>
          </a:xfrm>
          <a:custGeom>
            <a:avLst/>
            <a:gdLst>
              <a:gd name="textAreaLeft" fmla="*/ 525960 w 2305080"/>
              <a:gd name="textAreaRight" fmla="*/ 1779120 w 230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13372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342900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458136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23240" y="4869000"/>
            <a:ext cx="81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Жалқ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4520" y="37162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Ғаламз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е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66520" y="2349360"/>
            <a:ext cx="99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дамз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кім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23960" y="3789360"/>
            <a:ext cx="94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Дерексі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ақсы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205000"/>
            <a:ext cx="2305080" cy="1081080"/>
          </a:xfrm>
          <a:custGeom>
            <a:avLst/>
            <a:gdLst>
              <a:gd name="textAreaLeft" fmla="*/ 525960 w 2305080"/>
              <a:gd name="textAreaRight" fmla="*/ 1779120 w 230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549360"/>
            <a:ext cx="2089080" cy="108108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7160" y="789120"/>
            <a:ext cx="175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Заттың атауы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білдіре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0680" y="2492280"/>
            <a:ext cx="9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Дерек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ақ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093080" y="2492280"/>
            <a:ext cx="341280" cy="301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7451640" y="2492280"/>
            <a:ext cx="341280" cy="301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7956720" y="3865680"/>
            <a:ext cx="360360" cy="15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8172360" y="4076640"/>
            <a:ext cx="328680" cy="139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04000" y="549360"/>
            <a:ext cx="2089080" cy="108108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84960" y="722160"/>
            <a:ext cx="124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Сұрақта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Кім? Кімд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Не?</a:t>
            </a: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 Нел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4:08:25Z</dcterms:created>
  <dc:creator>Асель</dc:creator>
  <dc:description/>
  <dc:language>en-US</dc:language>
  <cp:lastModifiedBy>User</cp:lastModifiedBy>
  <dcterms:modified xsi:type="dcterms:W3CDTF">2013-02-06T18:16:24Z</dcterms:modified>
  <cp:revision>53</cp:revision>
  <dc:subject/>
  <dc:title>Пєндік олимпиа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60000000000010250500207f7000400038000</vt:lpwstr>
  </property>
</Properties>
</file>